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12B-63E4-452B-B459-1C65C9AE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235-97C4-439F-AADE-08C960CF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C3B-9E36-4D93-8AFC-3949EA9B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ACD-A124-4683-8AC0-ACF6027F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BF29-1994-4CCA-A775-2E759845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B58A-14EC-49AA-A5CE-7C6C5EE0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6A62-F946-4588-9A1F-2979AEC2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59C2-CF15-4CA1-AB72-6C4FA970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CF67-BE35-47BA-B3E4-992DF9A0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069C-C2E3-4E77-83BF-7EB882C9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9341-9C6B-4A37-8739-91082E2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CE6-5296-4C8E-AF27-A6FF7730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A8B1-734F-4A49-A209-C02F83D0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FF89-97CD-4568-9090-1269136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3424-90C8-4379-9322-9667A801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5BC1-9A89-4A91-823B-D296AC4A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D618-AA05-421F-BE0E-CCF70128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94016-CBB1-41CB-B130-2F868221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9DBC7-B460-4472-B87A-2C1BA735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937EA-56FF-4B45-902F-6FD1E509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744E3-5033-43C4-B1F5-8B8BA091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CC0E-096E-436F-A863-C6A33BCF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DDA-DE38-4B8B-B42D-A11A6B0D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4DCE-84D7-4D34-BAFA-FED4EA9B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2C8E2-89AA-4521-8B69-2D25ECF8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7B82-55C0-43E3-9235-9CB39E49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8BAC-3E55-46E4-BF0D-57FFC07D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57299-EA59-4601-9527-1764732F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7C518-2B50-47FC-B973-05EA0327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3ECF5-74C2-4EBD-818F-E7DB00580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58E8F-452B-486E-B323-645E71D5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5935F-62F1-4CA6-92E8-153EA877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32D88-AA5E-4E94-960A-9A4A09CC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02D-7D97-4B9D-8987-52072DDB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8FD74-A4D0-4A78-83A4-6C915E8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F187B-FD7B-4725-84CA-517898ED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CE4CB-5E2F-4CE7-BB46-F9FF889C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D0C79-3277-4665-A62A-865851F4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635C-6E83-4864-95C7-6B3581F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D58F8-413F-43C9-9BF8-8CB769CD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210F1-198D-48DC-AC18-7E0DE63B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D7A6-C706-44B4-A0BD-00808DDD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8F497-4714-4591-8580-CBF0B90F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EB9F-3C34-4C2A-A3E1-89590732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4B4-4D7A-484D-B244-A510E85F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66C63-A2A4-4014-9F9D-7A62A709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C830-4501-4740-8B67-FE65611F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59A2-B4B6-4683-906B-5BEDEE8D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E9138-302D-4EDF-A013-BFDD4633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2FCD1-08DA-49C4-BAEE-EAF6020E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EDFEE-7991-450F-99F6-FD15B35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9A7B1-097A-4683-A741-774E36C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859FE-C810-42E4-A278-DCD4F0C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BAFAD-03E6-48FC-BC2E-E2CC3920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3CFD8-470A-486D-A1C6-406621E1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805-C2A5-4E50-8233-8C9AC181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B0C40-E48F-4F29-95AC-56C24209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7A0-D69B-4184-A01C-B1516200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2BF-D759-429E-83BF-58C0BFB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99D-8C06-4971-8ADA-70A30424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5950-C5BB-4549-9690-80125093D9A4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9FB8-9D5D-4391-8EF8-658FE169EB8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74EC-628B-4CC1-A1E3-5A5B032487A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CA7C-1961-49EB-BE80-91761AAA97C9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316A-CD1D-402B-8975-7246A57FAB7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767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y Yesmena Buzeriba -Jessica Deleon- Gabbi Cheselsk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785000" cy="927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 rot="21414600">
            <a:off x="144000" y="1069920"/>
            <a:ext cx="79171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378000" y="212760"/>
            <a:ext cx="7248240" cy="725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 rot="21406200">
            <a:off x="150840" y="1082160"/>
            <a:ext cx="7702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378000" y="285840"/>
            <a:ext cx="7248240" cy="725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 rot="21400800">
            <a:off x="428760" y="1215720"/>
            <a:ext cx="73152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 rot="21312000">
            <a:off x="617400" y="479160"/>
            <a:ext cx="7096320" cy="6100560"/>
          </a:xfrm>
          <a:prstGeom prst="rect">
            <a:avLst/>
          </a:prstGeom>
          <a:ln w="0">
            <a:noFill/>
          </a:ln>
        </p:spPr>
      </p:pic>
      <p:pic>
        <p:nvPicPr>
          <p:cNvPr id="229" name="Title 1" descr=""/>
          <p:cNvPicPr/>
          <p:nvPr/>
        </p:nvPicPr>
        <p:blipFill>
          <a:blip r:embed="rId2"/>
          <a:stretch/>
        </p:blipFill>
        <p:spPr>
          <a:xfrm>
            <a:off x="7736040" y="1407960"/>
            <a:ext cx="347400" cy="2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7613640" y="1195560"/>
            <a:ext cx="92160" cy="272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 rot="21354600">
            <a:off x="303120" y="343080"/>
            <a:ext cx="82962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42:27Z</dcterms:created>
  <dc:creator>Student</dc:creator>
  <dc:description/>
  <dc:language>en-US</dc:language>
  <cp:lastModifiedBy>Student</cp:lastModifiedBy>
  <dcterms:modified xsi:type="dcterms:W3CDTF">2011-03-28T01:56:59Z</dcterms:modified>
  <cp:revision>1</cp:revision>
  <dc:subject/>
  <dc:title>Commerce</dc:title>
</cp:coreProperties>
</file>